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5FE8-9082-4EC3-BC1C-C63D9B9D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D0D-807A-4453-85C7-9324912D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F86F-8A22-49D8-B1EC-6E03E2B1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A331-3010-4BEA-84ED-9F26A770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F89-FAE7-4EB0-BD6D-C222E76C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463-E7C8-40D8-9EBC-5F1379C8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77E6-E0BB-4CA7-978B-8791AF2F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F7B6-9CA2-4CE0-BAC2-B8AB7D89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200-6BFA-41E3-8120-02BD1FC9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040-6171-4BF9-924F-66DB813D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E4A3-97E7-4C1D-AB65-F05F1A5C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184-F061-418C-878F-02313DA4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73DB-9460-42AD-A283-53D61ACBE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rupocultivar.com.br/artigos/artigo.asp?id=116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46120"/>
            <a:ext cx="7772400" cy="1469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 Black"/>
              </a:rPr>
              <a:t>  </a:t>
            </a:r>
            <a:r>
              <a:rPr b="1" lang="en-US" sz="4800" spc="-1" strike="noStrike">
                <a:solidFill>
                  <a:srgbClr val="99cc00"/>
                </a:solidFill>
                <a:latin typeface="Arial Black"/>
              </a:rPr>
              <a:t>Mosca Bran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27640" y="2637000"/>
            <a:ext cx="2619360" cy="1742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9520" y="18900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77040" y="271440"/>
            <a:ext cx="2371680" cy="1933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95280" y="472428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334200" y="4686480"/>
            <a:ext cx="24858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ções geográf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e latitudes 30ºN e 30º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ginária da Ásia Men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aca cerca de 506 tipos de pl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etor de vírus de planta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geminivir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ctada no Brasil em 1923, 1968 (SP), 1973 (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.argentifolii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ício de 1990 – Austrál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ados da década de 1990 –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90 – SP (plantas ornamenta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93 – DF (tomate e pepi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95-1996 – BA e PE (vale do São Francis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0% plantio comercial de tomate já infectado (DF, BA, 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asalamento assimét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rupocultivar.com.br/artigos/artigo.asp?id=1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an-Sheng Zang e Shu-Sheng Liu. A comparative study on mating behaviour between the B biotype and the non-B biotypeof Bemisia tabaci (Hemiptera: Aleyrodidae) from Zhejiang, China.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J.Insect Behavi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20 (2), março 2007. DOI: 10.1007/s10905-006-9066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misia Bionomics and Management of a Global 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8:20:15Z</dcterms:created>
  <dc:creator>Aluno</dc:creator>
  <dc:description/>
  <dc:language>en-US</dc:language>
  <cp:lastModifiedBy>Aluno</cp:lastModifiedBy>
  <dcterms:modified xsi:type="dcterms:W3CDTF">2011-02-08T19:50:49Z</dcterms:modified>
  <cp:revision>5</cp:revision>
  <dc:subject/>
  <dc:title>Slide 1</dc:title>
</cp:coreProperties>
</file>